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5"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3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8"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9"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53BAC-897F-4BF3-BEBF-4D07EF4CF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9D43-40D4-4D05-8CC5-00725EE90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6A54-5C7A-4B2D-9877-290DB5468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65E9-0AAF-4BE3-B5FC-C8E40B6B1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01EC-1E7F-495E-B26E-1AABC8F0A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D9ACB-4239-4455-B207-36AE51D96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983C0-2096-4DAE-AC7F-02F1C33EB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49C5-1497-4B3B-909D-1479E8B44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063A-6870-45CF-9E14-8B80FF2E4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EF66-00B3-44B5-9479-5ADD99E55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9398-CF1B-4644-8499-A4E44518A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8645-E879-4E9D-BD41-DF738C7F0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9C70-ECD6-4C37-9602-9AA46EBF9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1A9A-B8C0-4781-A67F-D43503DB6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FF02-5EB6-478D-BE52-A94F788C5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603D-798B-44F1-8051-95344292C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5461-51E8-400A-BCD7-10589A247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5EC6-4CA2-498C-96A2-895D5B790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64CC-1C38-46BD-BE4E-E4419BD41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91DC-B552-418D-B28C-0B044490D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724A-F0C3-4A48-BFE8-24714337A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BBDF-776C-4D58-820A-C3CF8B2DB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B1DE-17FC-4580-97BF-654D579D2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8474-1A66-4A6A-BC89-D5915FA91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181C-2040-4E92-99AB-99E409AA7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CC49-4B9B-4F84-9A1E-45489334A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2210-E99F-4AE3-8443-677D04969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81BE1-36CB-4563-93DA-025574EE2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FD735-C336-4939-B99C-25D843203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F424-C30D-4AA2-A2C7-95755CFA4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460BD-7735-46E5-B44A-E5951851F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AF30-AB5F-4D0D-8E59-B47DA1D52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64C0-3776-4E41-854E-4517817FA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D4A16-3DD4-4B10-AD0B-4502066A0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DB7FC-0226-4B08-A08A-ED7390B6F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75E8F-D370-47B1-8D6E-580A19756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644369D-5AA5-4722-A233-D1F4EA0CE2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B8F7367-B09E-4BEB-8956-B41B5A13ED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9D8D3772-DE89-4C77-B239-8D5B480CDF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8215458-26B7-47C9-B294-F503F74118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33B993A-0D11-480B-9BB4-CB21C232DA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76E9AB2-EAB2-46C4-8E6A-35120F1FA1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152D8AC-EE5E-4889-9904-06416B5E47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E7B41F12-537C-4485-A7D7-29180E231D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43DF5FDD-75C7-4CCE-8162-0132D49C1E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5B26D-E670-4E8C-8784-8C5D9F532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6E31B-E6D9-4480-ACAE-65C52EAB0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C93700-BFF6-42DD-84B9-54D67B4BD1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89AD7-2645-433C-A416-CFD257DAB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3870B-DADB-4E6E-ADC3-12554BB7F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3377B-6D40-4C17-8A3A-5C8A1834C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F7D4B-2FB3-4224-B876-FF6A64A5D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6B28A-9B4B-438D-B8A0-6AC7403D6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C1EB0-E22E-4917-982F-0CC1BB55F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E0D43-F5D2-463E-8BC8-F71B19AA3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FDF44-DEE4-44C6-A2E3-4D7E1C522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5634D-99BA-4C72-98D6-6B88749C4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10447-8502-40DF-971D-67568AA23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C9190-BC36-4CD7-B3F2-0317DEC61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5020D-FC3D-4A3C-8A3B-A94225F50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FE5775-E5B3-4581-8576-3DEC7742F0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404DB5-9950-468E-A0E6-B15AD94302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FE5B7D-6292-4C86-804D-FE83804A9B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035CF4-7CCB-42BB-93AE-A903660DD3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D9638D-9C75-431B-8AA1-69803E93C2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EAEDF-172E-4CC7-8F38-D6F1E101C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78D23B-F19A-48CF-B809-F571A99AE6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C0DC96-61DB-4D01-A9D4-A5916CC014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6A440-1DA5-497E-9D79-C7779B0527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BB3EA6-4DA5-4513-9B52-9CA42D3C8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D649F9-635E-455C-AE99-47FFC4197D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74642E-DB88-4359-A066-327D4DE99F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A9E948-A769-435B-B2DE-727AFE0E83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F35C8E-122A-4043-B2B4-F8062E2471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5F8B51-708D-4D1F-88DE-2632946AD5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0D7E63-BA7B-4822-8D0F-516A1C94AA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E9054-A1C3-4CAB-9D1A-3262FD5B0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3FE2BE-5C42-4B24-99B8-E082BE0D6E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818C87-E40E-44DF-8253-49181271D4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96F420-81CD-4955-B6D3-FDA63ED81A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29A37A-62AE-4E34-A933-BB0331D418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EBA520-B6CD-4EC3-B5E7-AD51C5010D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1B92C4-264A-400D-9CF8-BD050219D8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E9B07B-B2E8-49C1-9E6A-176D61D231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C38526-6282-4A57-B353-19C5DEA767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D28A30-0F68-4095-8130-EFC2CFACDA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B08FFD9-18C4-4E4F-80B3-129FFD9107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BAF73-4CED-4208-AEFD-E5CF9C9F0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7FDA064-F562-45E7-91FE-3B511EB90F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11870B3-D126-4D7A-8ABC-2DE66CC441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62EBE50-F1AF-4DDD-B83F-D27CC33E3A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F54A7E0-8D9D-43CE-954C-BD3A3C5CC7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586FB3C-C489-4A4F-A444-096C638AB2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00B400-D9A0-4720-AAC8-A7773AFB3F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B560A89-C650-44C1-A8C2-C4CC3BEEC7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B8AB08A-C166-48FF-8334-C990F78ADF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4BB3C95-B58F-477B-9EE3-5875791309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EF7E440-9EBD-404F-AE11-D7D1DD1012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0B728-2D02-40BB-AABC-1C4221789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0FA52E3-30D8-4AA1-A330-A0D1019624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8D3007-27FD-4F69-A2A4-7C655FCCFB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456A3D-BDAD-4328-8DC6-1CF44B1427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DC0D01-FABF-4556-AE5E-04EECC2F8F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CD8424-68E4-4F36-95A0-6ECF32124B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8DE274-B7F0-41ED-AECB-2FB3477ADA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DD4275-9BE3-40F7-AA92-37058DEBF0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99BAE5-D8DB-4006-AA4A-EADF184D46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540ECA-1484-45BB-AB00-13790CB7D6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E9B0BD-7D19-47E3-9F69-C169D97725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49B2F-B6E3-4601-97DD-23481013E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EE7863-4170-4846-AE0C-F4DECF8E90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45223F-67FF-49AE-B769-6AC69EF495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A9172B-BFF1-4F75-A5C1-3B79639729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35C93B2-0DA1-427D-ABC5-D415E5A561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61C984E-05EC-4A44-A979-875B82FD12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2CC2A60-48B3-47C6-9AE5-41AB6FA3D5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D571CB8-0F61-4B6B-8654-66794DD059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3A2A545-D87F-408B-A601-D1065DD7F1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5DF7347-850E-4F98-ADC5-79018D1B44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F00DD59-6EB2-434B-BA7D-E57D969806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4BF14-43ED-4100-A6AC-D39672729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A582B94-BCDB-4825-BEDE-D791C7EB15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CEAE958-8467-413B-AF20-53BD8D4D55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BE083C3-F3AF-4987-AE47-6D4E1E8DCB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AAE4573-11B3-4733-BF50-F623BD1954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BF06E56-6F9E-4F27-BE41-808E596621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B40968BC-301B-4DAF-9041-BE27DB919E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6E5B89B-DAEE-4EED-B57B-B0A0A6E846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7ED776E-7395-4711-9B9F-CBAC96AA1E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C8CC08A-E64A-4FA7-AFC2-203D5EA444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CCA1468-2CA5-48BB-9367-D1FD986E89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C2A6B-79DD-49B0-B34D-C9283E65D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1480212-946A-4300-80D7-3213359B12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6B54D25-BBEA-49E3-8BB0-5ED61E918A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DB576E0-3914-42FF-BF9F-8ACDAB9A78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77A736E-0862-453C-9FB3-91961A6681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8163140-7297-4256-B6DE-301BAAC61E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3B1FF433-E95E-424F-9940-6944FF9A41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CE64C3C8-FDA4-4894-9175-EBA0A9EF13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14BA22F2-5110-4199-8318-A21CCC9E3D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321797F-77AE-4E2D-8233-A4690DDA20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B49A446-D41B-4DE3-87F4-97088222A6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1DFDF-B895-4172-A810-940B1D219774}"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4" name="PlaceHolder 3"/>
          <p:cNvSpPr>
            <a:spLocks noGrp="1"/>
          </p:cNvSpPr>
          <p:nvPr>
            <p:ph type="dt" idx="4"/>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AB2EA-F230-4A6F-A87D-AC223C81B19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89"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90" name="PlaceHolder 3"/>
          <p:cNvSpPr>
            <a:spLocks noGrp="1"/>
          </p:cNvSpPr>
          <p:nvPr>
            <p:ph type="dt" idx="7"/>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type="ftr" idx="8"/>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E825-2DFF-43AE-B107-8B486A330BF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4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47" name="PlaceHolder 3"/>
          <p:cNvSpPr>
            <a:spLocks noGrp="1"/>
          </p:cNvSpPr>
          <p:nvPr>
            <p:ph type="dt" idx="10"/>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4"/>
          <p:cNvSpPr>
            <a:spLocks noGrp="1"/>
          </p:cNvSpPr>
          <p:nvPr>
            <p:ph type="ftr" idx="11"/>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5"/>
          <p:cNvSpPr>
            <a:spLocks noGrp="1"/>
          </p:cNvSpPr>
          <p:nvPr>
            <p:ph type="sldNum" idx="12"/>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7A4B-C780-46EA-B95A-1CB3E7F3C63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9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94"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08F4-39BC-4F3D-AEB4-F4104291020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96"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233"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25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251" name="PlaceHolder 3"/>
          <p:cNvSpPr>
            <a:spLocks noGrp="1"/>
          </p:cNvSpPr>
          <p:nvPr>
            <p:ph type="dt" idx="16"/>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4"/>
          <p:cNvSpPr>
            <a:spLocks noGrp="1"/>
          </p:cNvSpPr>
          <p:nvPr>
            <p:ph type="ftr" idx="17"/>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PlaceHolder 5"/>
          <p:cNvSpPr>
            <a:spLocks noGrp="1"/>
          </p:cNvSpPr>
          <p:nvPr>
            <p:ph type="sldNum" idx="18"/>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565C3-DA6B-4CF0-BA06-8DE05DF747B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9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98"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4228-21B6-4834-BF93-4DD45E435E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00"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4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46"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A7DAF-C762-43EC-AA5A-7ED332001AB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48" name="PlaceHolder 5"/>
          <p:cNvSpPr>
            <a:spLocks noGrp="1"/>
          </p:cNvSpPr>
          <p:nvPr>
            <p:ph type="ftr" idx="2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9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94"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E674-B3CA-4CFA-8CDB-F231DDD733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96"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WOODROW WILSON AND THE GREAT WAR</a:t>
            </a:r>
            <a:endParaRPr b="0" lang="en-US" sz="3000" spc="-1" strike="noStrike">
              <a:solidFill>
                <a:srgbClr val="575f6d"/>
              </a:solidFill>
              <a:latin typeface="Century Schoolbook"/>
            </a:endParaRPr>
          </a:p>
        </p:txBody>
      </p:sp>
      <p:sp>
        <p:nvSpPr>
          <p:cNvPr id="44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rom http://wps.ablongman.com/wps/media/objects/244/250679/ppt/ch24.pp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7"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Road to War</a:t>
            </a:r>
            <a:endParaRPr b="0" lang="en-US" sz="24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 an effort to mediate the European conflict, Wilson sent his advisor, Colonel Edward M. House, to negotiate with the belligerents</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fter the failure of the House mission, America moved ever closer to intervention</a:t>
            </a:r>
            <a:endParaRPr b="0" lang="en-US" sz="2100" spc="-1" strike="noStrike">
              <a:solidFill>
                <a:srgbClr val="000000"/>
              </a:solidFill>
              <a:latin typeface="Century Schoolbook"/>
            </a:endParaRPr>
          </a:p>
          <a:p>
            <a:pPr lvl="1" marL="639720" indent="-272880">
              <a:lnSpc>
                <a:spcPct val="13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urope refused to respond to Wilson’s plea in January 1917 for peace without victory</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fter that, a series of events led the United States closer to war</a:t>
            </a:r>
            <a:endParaRPr b="0" lang="en-US" sz="2100" spc="-1" strike="noStrike">
              <a:solidFill>
                <a:srgbClr val="000000"/>
              </a:solidFill>
              <a:latin typeface="Century School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1" name=""/>
          <p:cNvSpPr txBox="1"/>
          <p:nvPr/>
        </p:nvSpPr>
        <p:spPr>
          <a:xfrm>
            <a:off x="685800" y="685800"/>
            <a:ext cx="7772400" cy="5410080"/>
          </a:xfrm>
          <a:prstGeom prst="rect">
            <a:avLst/>
          </a:prstGeom>
          <a:noFill/>
          <a:ln w="0">
            <a:noFill/>
          </a:ln>
        </p:spPr>
        <p:txBody>
          <a:bodyPr lIns="90360" rIns="90360" tIns="44280" bIns="44280" anchor="t">
            <a:normAutofit/>
          </a:bodyPr>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ermany resumed unrestricted submarine warfare in February </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Zimmermann telegram was released in March, after which Wilson authorized the arming of American merchantmen</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n April 2, 1917, Wilson requested that Congress declare war on Germany</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n April 6, the Senate voted 82 to 6 and the House 373 to 50 in favor of war</a:t>
            </a:r>
            <a:endParaRPr b="0" lang="en-US" sz="2100" spc="-1" strike="noStrike">
              <a:solidFill>
                <a:srgbClr val="000000"/>
              </a:solidFill>
              <a:latin typeface="Century Schoolboo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5"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obilizing the Economy</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merica’s entry into the war assured an Allied victor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conversion of America’s economy to a wartime footing proceeded slowly, and the war ended before much of the process was complet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conscription did not begin to mobilize nation’s military manpower until September 1917</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fter several false starts, Wilson created the War Industries Board (WIB) to direct industrial mobilization</a:t>
            </a:r>
            <a:endParaRPr b="0" lang="en-US" sz="2100" spc="-1" strike="noStrike">
              <a:solidFill>
                <a:srgbClr val="000000"/>
              </a:solidFill>
              <a:latin typeface="Century Schoolboo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89" name=""/>
          <p:cNvSpPr txBox="1"/>
          <p:nvPr/>
        </p:nvSpPr>
        <p:spPr>
          <a:xfrm>
            <a:off x="685800" y="609480"/>
            <a:ext cx="7772400" cy="5486400"/>
          </a:xfrm>
          <a:prstGeom prst="rect">
            <a:avLst/>
          </a:prstGeom>
          <a:noFill/>
          <a:ln w="0">
            <a:noFill/>
          </a:ln>
        </p:spPr>
        <p:txBody>
          <a:bodyPr lIns="90360" rIns="90360" tIns="44280" bIns="44280" anchor="t">
            <a:normAutofit/>
          </a:bodyPr>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merica was more successful in mobilizing food supplies under the leadership of Herbert Hoover, a mining engineer and former head of the Belgian Relief Commission, who was appointed to supervise agricultural production</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artime government planning and regulation began a new era in cooperation between government and business</a:t>
            </a:r>
            <a:endParaRPr b="0" lang="en-US" sz="2100" spc="-1" strike="noStrike">
              <a:solidFill>
                <a:srgbClr val="000000"/>
              </a:solidFill>
              <a:latin typeface="Century Schoolboo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3"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orkers in Wartim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emands of a wartime economy, coupled with a shortage of workers, lowered unemploymen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mmigration was reduced to a trickle; wages rose; and unemployment disappear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npower shortages created new employment opportunities for blacks, women, and other disadvantaged group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lacks left South for jobs in northern factorie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ile government did act to forestall strikes, its actions also opened the way for unionization of many previously unorganized industries</a:t>
            </a:r>
            <a:endParaRPr b="0" lang="en-US" sz="2100" spc="-1" strike="noStrike">
              <a:solidFill>
                <a:srgbClr val="000000"/>
              </a:solidFill>
              <a:latin typeface="Century Schoolboo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7" name=""/>
          <p:cNvSpPr txBox="1"/>
          <p:nvPr/>
        </p:nvSpPr>
        <p:spPr>
          <a:xfrm>
            <a:off x="685800" y="533160"/>
            <a:ext cx="7772400" cy="556236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aying for the War</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war cost the federal government about $33.5 billion, not counting pensions and other postwar expens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overnment borrowing financed over two-thirds of the war’s cos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 addition to direct loans, the sale of Liberty and Victory bonds raised million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 steeply graduated income tax, increased inheritance taxes, and an excess-profits tax helped the federal government raise over $10.5 billion in tax monies</a:t>
            </a:r>
            <a:endParaRPr b="0" lang="en-US" sz="2100" spc="-1" strike="noStrike">
              <a:solidFill>
                <a:srgbClr val="000000"/>
              </a:solidFill>
              <a:latin typeface="Century School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1" name=""/>
          <p:cNvSpPr txBox="1"/>
          <p:nvPr/>
        </p:nvSpPr>
        <p:spPr>
          <a:xfrm>
            <a:off x="685800" y="533160"/>
            <a:ext cx="7772400" cy="556236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opaganda and Civil Liberties</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o rally public support, Wilson named George Creel to head the newly created Committee on Public Information (CPI)</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CPI churned out propaganda portraying the war as a crusade for freedom and democracy</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 the midst of wartime hysteria, little distinction was made between constitutionally guaranteed rights of dissent and illegal acts of sedition or treason</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lson signed Espionage Act of 1917 and  Sedition Act of 1918, which went far beyond what was necessary to protect national interest</a:t>
            </a:r>
            <a:endParaRPr b="0" lang="en-US" sz="2100" spc="-1" strike="noStrike">
              <a:solidFill>
                <a:srgbClr val="000000"/>
              </a:solidFill>
              <a:latin typeface="Century Schoolboo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5"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artime Reform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merica’s wartime experience was part and product of the Progressive Era</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exigencies of war opened the way for government involvement in many social and economic area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 new generation of professionally educated, reform-minded individuals found employment in the federal bureaucracy, and it appeared that the war was creating a sense of common purpose that might stimulate the public to cooperate to achieve selfless goals</a:t>
            </a:r>
            <a:endParaRPr b="0" lang="en-US" sz="2100" spc="-1" strike="noStrike">
              <a:solidFill>
                <a:srgbClr val="000000"/>
              </a:solidFill>
              <a:latin typeface="Century School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9" name=""/>
          <p:cNvSpPr txBox="1"/>
          <p:nvPr/>
        </p:nvSpPr>
        <p:spPr>
          <a:xfrm>
            <a:off x="685800" y="609480"/>
            <a:ext cx="7772400" cy="5486400"/>
          </a:xfrm>
          <a:prstGeom prst="rect">
            <a:avLst/>
          </a:prstGeom>
          <a:noFill/>
          <a:ln w="0">
            <a:noFill/>
          </a:ln>
        </p:spPr>
        <p:txBody>
          <a:bodyPr lIns="90360" rIns="90360" tIns="44280" bIns="44280" anchor="t">
            <a:normAutofit/>
          </a:bodyPr>
          <a:p>
            <a:pPr lvl="1" marL="639720" indent="-272880">
              <a:lnSpc>
                <a:spcPct val="13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omen’s suffrage, economic opportunities for blacks, gains in workmen’s compensation, and prohibition were but a few of the reforms of the war era</a:t>
            </a:r>
            <a:endParaRPr b="0" lang="en-US" sz="2100" spc="-1" strike="noStrike">
              <a:solidFill>
                <a:srgbClr val="000000"/>
              </a:solidFill>
              <a:latin typeface="Century School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3"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omen and Blacks in Wartime</a:t>
            </a:r>
            <a:endParaRPr b="0" lang="en-US" sz="24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omen found employment in new fields during the war, but for the majority these gains were short-lived</a:t>
            </a:r>
            <a:endParaRPr b="0" lang="en-US" sz="21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raditional views of a “woman’s role,” the desire to rehire veterans, and the opposition of many unions prevented women from consolidating their employment gains</a:t>
            </a:r>
            <a:endParaRPr b="0" lang="en-US" sz="21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ore than a half million southern blacks moved north to cities between 1914 and 1919</a:t>
            </a:r>
            <a:endParaRPr b="0" lang="en-US" sz="2100" spc="-1" strike="noStrike">
              <a:solidFill>
                <a:srgbClr val="000000"/>
              </a:solidFill>
              <a:latin typeface="Century School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PlaceHolder 1"/>
          <p:cNvSpPr>
            <a:spLocks noGrp="1"/>
          </p:cNvSpPr>
          <p:nvPr>
            <p:ph type="title"/>
          </p:nvPr>
        </p:nvSpPr>
        <p:spPr>
          <a:xfrm>
            <a:off x="456840" y="274320"/>
            <a:ext cx="746748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Schoolbook"/>
              </a:rPr>
              <a:t>WOODROW WILSON AND THE GREAT WAR</a:t>
            </a:r>
            <a:endParaRPr b="0" lang="en-US" sz="3600" spc="-1" strike="noStrike">
              <a:solidFill>
                <a:srgbClr val="575f6d"/>
              </a:solidFill>
              <a:latin typeface="Century Schoolbook"/>
            </a:endParaRPr>
          </a:p>
        </p:txBody>
      </p:sp>
      <p:sp>
        <p:nvSpPr>
          <p:cNvPr id="445" name=""/>
          <p:cNvSpPr txBox="1"/>
          <p:nvPr/>
        </p:nvSpPr>
        <p:spPr>
          <a:xfrm>
            <a:off x="456840" y="1600200"/>
            <a:ext cx="7467480" cy="487368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ilson’s “Moral” Diplomacy</a:t>
            </a:r>
            <a:endParaRPr b="0" lang="en-US" sz="24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lson set the moral tone for his foreign policy by denouncing dollar diplomacy</a:t>
            </a:r>
            <a:endParaRPr b="0" lang="en-US" sz="21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 some matters, idealism provided an adequate basis for foreign policy</a:t>
            </a:r>
            <a:endParaRPr b="0" lang="en-US" sz="21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he persuaded Japan to modify the harshness of its Twenty-one Demands (1915) against China</a:t>
            </a:r>
            <a:endParaRPr b="0" lang="en-US" sz="2100" spc="-1" strike="noStrike">
              <a:solidFill>
                <a:srgbClr val="000000"/>
              </a:solidFill>
              <a:latin typeface="Century School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7" name=""/>
          <p:cNvSpPr txBox="1"/>
          <p:nvPr/>
        </p:nvSpPr>
        <p:spPr>
          <a:xfrm>
            <a:off x="685800" y="609480"/>
            <a:ext cx="7772400" cy="5486400"/>
          </a:xfrm>
          <a:prstGeom prst="rect">
            <a:avLst/>
          </a:prstGeom>
          <a:noFill/>
          <a:ln w="0">
            <a:noFill/>
          </a:ln>
        </p:spPr>
        <p:txBody>
          <a:bodyPr lIns="90360" rIns="90360" tIns="44280" bIns="44280" anchor="t">
            <a:normAutofit/>
          </a:bodyPr>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igrating blacks met with hostility and, on occasion, violence; however, many realized an improvement in their social and political statu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lacks who joined the armed forces served in segregated unit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majority of black servicemen were assigned to support and labor units, but many did fight and die for their countr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bout 200,000 blacks served in Europe</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any blacks, including W. E. B. Du Bois, hoped that their patriotism would bring political equality when the war was over</a:t>
            </a:r>
            <a:endParaRPr b="0" lang="en-US" sz="2100" spc="-1" strike="noStrike">
              <a:solidFill>
                <a:srgbClr val="000000"/>
              </a:solidFill>
              <a:latin typeface="Century School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1"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mericans To the Trenches and Over the Top  </a:t>
            </a:r>
            <a:endParaRPr b="0" lang="en-US" sz="24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ore than 2 million Americans served in Europe</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lthough the American Expeditionary Force (AEF), under the command of General Pershing, reached France on July 4, 1917, American forces did not see action until the battles of Château-Thierry, Belleau Wood, and Soissons in 1918</a:t>
            </a:r>
            <a:endParaRPr b="0" lang="en-US" sz="2100" spc="-1" strike="noStrike">
              <a:solidFill>
                <a:srgbClr val="000000"/>
              </a:solidFill>
              <a:latin typeface="Century Schoolboo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5" name=""/>
          <p:cNvSpPr txBox="1"/>
          <p:nvPr/>
        </p:nvSpPr>
        <p:spPr>
          <a:xfrm>
            <a:off x="685800" y="685800"/>
            <a:ext cx="7772400" cy="5410080"/>
          </a:xfrm>
          <a:prstGeom prst="rect">
            <a:avLst/>
          </a:prstGeom>
          <a:noFill/>
          <a:ln w="0">
            <a:noFill/>
          </a:ln>
        </p:spPr>
        <p:txBody>
          <a:bodyPr lIns="90360" rIns="90360" tIns="44280" bIns="44280" anchor="t">
            <a:normAutofit/>
          </a:bodyPr>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merica’s largest engagement, the drive west through the Argonne Forest, involved over 1.2 million men and proved instrumental in ending the war</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 November 1918, an armistice ended the Great War</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merican casualties totaled 112,432 dead and 230,074 wounded</a:t>
            </a:r>
            <a:endParaRPr b="0" lang="en-US" sz="2100" spc="-1" strike="noStrike">
              <a:solidFill>
                <a:srgbClr val="000000"/>
              </a:solidFill>
              <a:latin typeface="Century Schoolbook"/>
            </a:endParaRPr>
          </a:p>
          <a:p>
            <a:pPr marL="272880" indent="-272880">
              <a:lnSpc>
                <a:spcPct val="12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9"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reparing for Peace</a:t>
            </a:r>
            <a:endParaRPr b="0" lang="en-US" sz="24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lthough hostilities ended in November, the shape of postwar Europe had yet to be decided</a:t>
            </a:r>
            <a:endParaRPr b="0" lang="en-US" sz="21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Central Powers, Germany in particular, anticipated a settlement based on Wilson’s Fourteen Points</a:t>
            </a:r>
            <a:endParaRPr b="0" lang="en-US" sz="21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victors, especially England and France, found many of its provisions unacceptable</a:t>
            </a:r>
            <a:endParaRPr b="0" lang="en-US" sz="21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lson journeyed to Paris and attempted personally to guide course of peace conference</a:t>
            </a:r>
            <a:endParaRPr b="0" lang="en-US" sz="2100" spc="-1" strike="noStrike">
              <a:solidFill>
                <a:srgbClr val="000000"/>
              </a:solidFill>
              <a:latin typeface="Century Schoolboo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3" name=""/>
          <p:cNvSpPr txBox="1"/>
          <p:nvPr/>
        </p:nvSpPr>
        <p:spPr>
          <a:xfrm>
            <a:off x="685800" y="533160"/>
            <a:ext cx="7772400" cy="5562360"/>
          </a:xfrm>
          <a:prstGeom prst="rect">
            <a:avLst/>
          </a:prstGeom>
          <a:noFill/>
          <a:ln w="0">
            <a:noFill/>
          </a:ln>
        </p:spPr>
        <p:txBody>
          <a:bodyPr lIns="90360" rIns="90360" tIns="44280" bIns="44280" anchor="t">
            <a:normAutofit/>
          </a:bodyPr>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th Wilson out of the country and preoccupied with the peace conference, the domestic political situation deteriorated</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re was growing discontent over his farm and tax policies; despite its gains during the war, labor was restiv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oreover, Wilson had exacerbated his political difficulties by making a partisan appeal for the election of a Democratic Congress in 1918</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Republicans won majorities in both houses, and Wilson faced a hostile Congress</a:t>
            </a:r>
            <a:endParaRPr b="0" lang="en-US" sz="2100" spc="-1" strike="noStrike">
              <a:solidFill>
                <a:srgbClr val="000000"/>
              </a:solidFill>
              <a:latin typeface="Century Schoolboo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37" name=""/>
          <p:cNvSpPr txBox="1"/>
          <p:nvPr/>
        </p:nvSpPr>
        <p:spPr>
          <a:xfrm>
            <a:off x="685800" y="609480"/>
            <a:ext cx="7772400" cy="5486400"/>
          </a:xfrm>
          <a:prstGeom prst="rect">
            <a:avLst/>
          </a:prstGeom>
          <a:noFill/>
          <a:ln w="0">
            <a:noFill/>
          </a:ln>
        </p:spPr>
        <p:txBody>
          <a:bodyPr lIns="90360" rIns="90360" tIns="44280" bIns="44280" anchor="t">
            <a:normAutofit/>
          </a:bodyPr>
          <a:p>
            <a:pPr lvl="1" marL="639720" indent="-272880">
              <a:lnSpc>
                <a:spcPct val="13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President compounded his problems by failing to appoint any leading Republicans or any members of the Senate to the peace commission, thus making it less likely that the Senate would ratify the treaty</a:t>
            </a:r>
            <a:endParaRPr b="0" lang="en-US" sz="2100" spc="-1" strike="noStrike">
              <a:solidFill>
                <a:srgbClr val="000000"/>
              </a:solidFill>
              <a:latin typeface="Century Schoolbook"/>
            </a:endParaRPr>
          </a:p>
          <a:p>
            <a:pPr lvl="1" marL="639720" indent="-272880">
              <a:lnSpc>
                <a:spcPct val="13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1" name=""/>
          <p:cNvSpPr txBox="1"/>
          <p:nvPr/>
        </p:nvSpPr>
        <p:spPr>
          <a:xfrm>
            <a:off x="685800" y="456840"/>
            <a:ext cx="7772400" cy="563868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Paris Peace Conference and the Versailles Treaty</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Big Four,” David Lloyd George of England, Wilson of the United States, Georges Clemenceau of France, and Vittorio Orlando of Italy, dominated the Paris Peace Conferenc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ar more concerned over security, war guilt, and reparations than Wilsonian goals of justice and international harmony, the European victors all but ignored Wilsonian goals of open diplomacy, freedom of the seas, and national self-determinat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lson expected that League of Nations would make up for deficiencies in Versailles Treaty</a:t>
            </a:r>
            <a:endParaRPr b="0" lang="en-US" sz="2100" spc="-1" strike="noStrike">
              <a:solidFill>
                <a:srgbClr val="000000"/>
              </a:solidFill>
              <a:latin typeface="Century Schoolboo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5"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Senate and the League of Nation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o pacify American opponents, Wilson persuaded the Great Powers to exclude “domestic questions,” such as tariff and immigration policies and the Monroe Doctrine from the purview of the League; but this did not ensure its acceptance with American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Senate Republicans split into three anti-League camp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irreconcilables” rejected League membership on any terms</a:t>
            </a:r>
            <a:endParaRPr b="0" lang="en-US" sz="2100" spc="-1" strike="noStrike">
              <a:solidFill>
                <a:srgbClr val="000000"/>
              </a:solidFill>
              <a:latin typeface="Century Schoolboo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9" name=""/>
          <p:cNvSpPr txBox="1"/>
          <p:nvPr/>
        </p:nvSpPr>
        <p:spPr>
          <a:xfrm>
            <a:off x="685800" y="533160"/>
            <a:ext cx="7772400" cy="5562360"/>
          </a:xfrm>
          <a:prstGeom prst="rect">
            <a:avLst/>
          </a:prstGeom>
          <a:noFill/>
          <a:ln w="0">
            <a:noFill/>
          </a:ln>
        </p:spPr>
        <p:txBody>
          <a:bodyPr lIns="90360" rIns="90360" tIns="44280" bIns="44280" anchor="t">
            <a:normAutofit/>
          </a:bodyPr>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t>
            </a:r>
            <a:r>
              <a:rPr b="0" lang="en-US" sz="2100" spc="-1" strike="noStrike">
                <a:solidFill>
                  <a:srgbClr val="000000"/>
                </a:solidFill>
                <a:latin typeface="Century Schoolbook"/>
              </a:rPr>
              <a:t>mild reservationists” backed membership, subject to minor revisions of League’s charter</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majority Republican opposition, the “strong reservationists” led by Henry Cabot Lodge of Massachusetts, would accept the League only if American sovereignty were fully protected</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lson refused to yield any ground and undertook a nationwide speaking tour to rally support for the treat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t Pueblo, Colorado, Wilson collapsed and had to return to Washingt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lson rejected all compromise, and the Senate rejected the Treaty</a:t>
            </a:r>
            <a:endParaRPr b="0" lang="en-US" sz="2100" spc="-1" strike="noStrike">
              <a:solidFill>
                <a:srgbClr val="000000"/>
              </a:solidFill>
              <a:latin typeface="Century Schoolboo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3"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mobilization</a:t>
            </a:r>
            <a:endParaRPr b="0" lang="en-US" sz="24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lmost immediately after signing the Armistice, the government removed its economic controls, blithely assuming that the economy could readjust itself without direction</a:t>
            </a:r>
            <a:endParaRPr b="0" lang="en-US" sz="21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illions of men were demobilized rapidly</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se swift and unregulated changes in the economy soon created problems</a:t>
            </a:r>
            <a:endParaRPr b="0" lang="en-US" sz="2100" spc="-1" strike="noStrike">
              <a:solidFill>
                <a:srgbClr val="000000"/>
              </a:solidFill>
              <a:latin typeface="Century Schoolbook"/>
            </a:endParaRPr>
          </a:p>
          <a:p>
            <a:pPr lvl="1" marL="639720" indent="-272880">
              <a:lnSpc>
                <a:spcPct val="11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flation spiraled; by 1920 the cost of living stood at twice the level of 1913</a:t>
            </a:r>
            <a:endParaRPr b="0" lang="en-US" sz="2100" spc="-1" strike="noStrike">
              <a:solidFill>
                <a:srgbClr val="000000"/>
              </a:solidFill>
              <a:latin typeface="Century School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9" name=""/>
          <p:cNvSpPr txBox="1"/>
          <p:nvPr/>
        </p:nvSpPr>
        <p:spPr>
          <a:xfrm>
            <a:off x="685800" y="609480"/>
            <a:ext cx="7772400" cy="5486400"/>
          </a:xfrm>
          <a:prstGeom prst="rect">
            <a:avLst/>
          </a:prstGeom>
          <a:noFill/>
          <a:ln w="0">
            <a:noFill/>
          </a:ln>
        </p:spPr>
        <p:txBody>
          <a:bodyPr lIns="90360" rIns="90360" tIns="44280" bIns="44280" anchor="t">
            <a:normAutofit/>
          </a:bodyPr>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ere vital interests were concerned, however, the primacy of America’s interests outweighed Wilson’s idealism</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mportance of the Panama Canal made Wilson unwilling to tolerate unrest in the Caribbean</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lson’s most fervent missionary diplomacy manifested itself in Mexico, where his personal abhorrence of the Mexican dictator, Victoriano Huerta, led to American military intervention in Mexico’s internal affairs</a:t>
            </a:r>
            <a:endParaRPr b="0" lang="en-US" sz="2100" spc="-1" strike="noStrike">
              <a:solidFill>
                <a:srgbClr val="000000"/>
              </a:solidFill>
              <a:latin typeface="Century Schoolbook"/>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7" name=""/>
          <p:cNvSpPr txBox="1"/>
          <p:nvPr/>
        </p:nvSpPr>
        <p:spPr>
          <a:xfrm>
            <a:off x="685800" y="609480"/>
            <a:ext cx="7772400" cy="5486400"/>
          </a:xfrm>
          <a:prstGeom prst="rect">
            <a:avLst/>
          </a:prstGeom>
          <a:noFill/>
          <a:ln w="0">
            <a:noFill/>
          </a:ln>
        </p:spPr>
        <p:txBody>
          <a:bodyPr lIns="90360" rIns="90360" tIns="44280" bIns="44280" anchor="t">
            <a:normAutofit/>
          </a:bodyPr>
          <a:p>
            <a:pPr lvl="1" marL="639720" indent="-272880">
              <a:lnSpc>
                <a:spcPct val="13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uring 1919, one out of five employees engaged in strike actions</a:t>
            </a:r>
            <a:endParaRPr b="0" lang="en-US" sz="2100" spc="-1" strike="noStrike">
              <a:solidFill>
                <a:srgbClr val="000000"/>
              </a:solidFill>
              <a:latin typeface="Century Schoolbook"/>
            </a:endParaRPr>
          </a:p>
          <a:p>
            <a:pPr lvl="1" marL="639720" indent="-272880">
              <a:lnSpc>
                <a:spcPct val="14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n came a precipitous economic decline; between July 1920 and March 1922, prices fell and unemployment surged</a:t>
            </a:r>
            <a:endParaRPr b="0" lang="en-US" sz="2100" spc="-1" strike="noStrike">
              <a:solidFill>
                <a:srgbClr val="000000"/>
              </a:solidFill>
              <a:latin typeface="Century Schoolbook"/>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1"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Red Scare</a:t>
            </a:r>
            <a:endParaRPr b="0" lang="en-US" sz="24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labor unrest, fear of Bolshevism, failure to distinguish between unions and communism, economic flux, and the xenophobic tenor of wartime propaganda fostered near hysteria in postwar America and led to the phenomenon known as the Red Scare</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 January 1920, Attorney General A. Mitchell Palmer organized a series of raids against radicals</a:t>
            </a:r>
            <a:endParaRPr b="0" lang="en-US" sz="2100" spc="-1" strike="noStrike">
              <a:solidFill>
                <a:srgbClr val="000000"/>
              </a:solidFill>
              <a:latin typeface="Century Schoolbook"/>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5" name=""/>
          <p:cNvSpPr txBox="1"/>
          <p:nvPr/>
        </p:nvSpPr>
        <p:spPr>
          <a:xfrm>
            <a:off x="685800" y="609480"/>
            <a:ext cx="7772400" cy="5486400"/>
          </a:xfrm>
          <a:prstGeom prst="rect">
            <a:avLst/>
          </a:prstGeom>
          <a:noFill/>
          <a:ln w="0">
            <a:noFill/>
          </a:ln>
        </p:spPr>
        <p:txBody>
          <a:bodyPr lIns="90360" rIns="90360" tIns="44280" bIns="44280" anchor="t">
            <a:normAutofit/>
          </a:bodyPr>
          <a:p>
            <a:pPr lvl="1" marL="639720" indent="-272880">
              <a:lnSpc>
                <a:spcPct val="13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of the more than 6,000 “radical” foreigners seized, only 556 proved liable to deportation</a:t>
            </a:r>
            <a:endParaRPr b="0" lang="en-US" sz="2100" spc="-1" strike="noStrike">
              <a:solidFill>
                <a:srgbClr val="000000"/>
              </a:solidFill>
              <a:latin typeface="Century Schoolbook"/>
            </a:endParaRPr>
          </a:p>
          <a:p>
            <a:pPr lvl="1" marL="639720" indent="-272880">
              <a:lnSpc>
                <a:spcPct val="13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en the massive uprising that Palmer predicted for May Day 1920 failed to materialize, the Red Scare swiftly subsided</a:t>
            </a:r>
            <a:endParaRPr b="0" lang="en-US" sz="2100" spc="-1" strike="noStrike">
              <a:solidFill>
                <a:srgbClr val="000000"/>
              </a:solidFill>
              <a:latin typeface="Century Schoolbook"/>
            </a:endParaRPr>
          </a:p>
          <a:p>
            <a:pPr marL="272880" indent="-272880">
              <a:lnSpc>
                <a:spcPct val="13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9"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Election of 1920</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Democrats nominated James A. Cox of Ohio, who favored membership in the Leagu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Republican nominee, Warren G. Harding, also of Ohio, equivocated on the issue, despite his Senate record as a strong reservationis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Harding’s smashing victory over Cox signaled more than America’s rejection of the Leagu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voters’ response to Harding’s call for a return to “normalcy” suggested that Americans sought an end to the period of agitation and reform that had begun with Theodore Roosevelt</a:t>
            </a:r>
            <a:endParaRPr b="0" lang="en-US" sz="2100" spc="-1" strike="noStrike">
              <a:solidFill>
                <a:srgbClr val="000000"/>
              </a:solidFill>
              <a:latin typeface="Century School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3" name=""/>
          <p:cNvSpPr txBox="1"/>
          <p:nvPr/>
        </p:nvSpPr>
        <p:spPr>
          <a:xfrm>
            <a:off x="685800" y="533160"/>
            <a:ext cx="7772400" cy="556236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 Explodes in War</a:t>
            </a:r>
            <a:endParaRPr b="0" lang="en-US" sz="24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hen World War I broke out in Europe, most Americans believed that the conflict did not concern them</a:t>
            </a:r>
            <a:endParaRPr b="0" lang="en-US" sz="2100" spc="-1" strike="noStrike">
              <a:solidFill>
                <a:srgbClr val="000000"/>
              </a:solidFill>
              <a:latin typeface="Century Schoolbook"/>
            </a:endParaRPr>
          </a:p>
          <a:p>
            <a:pPr lvl="1" marL="639720" indent="-272880">
              <a:lnSpc>
                <a:spcPct val="13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lson promptly issued a proclamation of neutrality</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war’s affront to progressive ideals, combined with the traditional American fear of entanglement in European affairs, provided ample justification for neutrality</a:t>
            </a:r>
            <a:endParaRPr b="0" lang="en-US" sz="2100" spc="-1" strike="noStrike">
              <a:solidFill>
                <a:srgbClr val="000000"/>
              </a:solidFill>
              <a:latin typeface="Century School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7" name=""/>
          <p:cNvSpPr txBox="1"/>
          <p:nvPr/>
        </p:nvSpPr>
        <p:spPr>
          <a:xfrm>
            <a:off x="685800" y="609480"/>
            <a:ext cx="7772400" cy="5486400"/>
          </a:xfrm>
          <a:prstGeom prst="rect">
            <a:avLst/>
          </a:prstGeom>
          <a:noFill/>
          <a:ln w="0">
            <a:noFill/>
          </a:ln>
        </p:spPr>
        <p:txBody>
          <a:bodyPr lIns="90360" rIns="90360" tIns="44280" bIns="44280" anchor="t">
            <a:normAutofit/>
          </a:bodyPr>
          <a:p>
            <a:pPr lvl="1" marL="639720" indent="-272880">
              <a:lnSpc>
                <a:spcPct val="13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ough most Americans wanted to stay out of the war, nearly all were partial to one side or the other</a:t>
            </a:r>
            <a:endParaRPr b="0" lang="en-US" sz="2100" spc="-1" strike="noStrike">
              <a:solidFill>
                <a:srgbClr val="000000"/>
              </a:solidFill>
              <a:latin typeface="Century Schoolbook"/>
            </a:endParaRPr>
          </a:p>
          <a:p>
            <a:pPr lvl="1" marL="639720" indent="-272880">
              <a:lnSpc>
                <a:spcPct val="12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people of German, Austrian, and Irish descent sympathized with the Central Powers; the majority, however, influenced by the ties of Anglo-American culture and successful Allied propaganda, sided with the Allies</a:t>
            </a:r>
            <a:endParaRPr b="0" lang="en-US" sz="2100" spc="-1" strike="noStrike">
              <a:solidFill>
                <a:srgbClr val="000000"/>
              </a:solidFill>
              <a:latin typeface="Century Schoolbook"/>
            </a:endParaRPr>
          </a:p>
          <a:p>
            <a:pPr marL="272880" indent="-272880">
              <a:lnSpc>
                <a:spcPct val="12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1"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reedom of the Sea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nticipating the economic benefits of trading with all belligerents, the United States found Britain’s control of the Atlantic frustrating</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ritain declared nearly all commodities to be contraband of war</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lthough British tactics frequently exasperated Wilson, they did not result in the loss of innocent lives; therefore, Wilson never seriously considered an embargo</a:t>
            </a:r>
            <a:endParaRPr b="0" lang="en-US" sz="2100" spc="-1" strike="noStrike">
              <a:solidFill>
                <a:srgbClr val="000000"/>
              </a:solidFill>
              <a:latin typeface="Century School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5" name=""/>
          <p:cNvSpPr txBox="1"/>
          <p:nvPr/>
        </p:nvSpPr>
        <p:spPr>
          <a:xfrm>
            <a:off x="685800" y="685800"/>
            <a:ext cx="7772400" cy="5410080"/>
          </a:xfrm>
          <a:prstGeom prst="rect">
            <a:avLst/>
          </a:prstGeom>
          <a:noFill/>
          <a:ln w="0">
            <a:noFill/>
          </a:ln>
        </p:spPr>
        <p:txBody>
          <a:bodyPr lIns="90360" rIns="90360" tIns="44280" bIns="44280" anchor="t">
            <a:normAutofit/>
          </a:bodyPr>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given British naval superiority and the economic importance of America, any action by the United States inevitably had a negative impact on one side or the other</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ultimately, increased trade with the Allies and profits from loans to France and England tied America more closely to the Allies</a:t>
            </a:r>
            <a:endParaRPr b="0" lang="en-US" sz="21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in addition, Germany’s use of submarine warfare brought new questions to issues of naval warfare and neutral rights</a:t>
            </a:r>
            <a:endParaRPr b="0" lang="en-US" sz="2100" spc="-1" strike="noStrike">
              <a:solidFill>
                <a:srgbClr val="000000"/>
              </a:solidFill>
              <a:latin typeface="Century Schoolbook"/>
            </a:endParaRPr>
          </a:p>
          <a:p>
            <a:pPr lvl="1" marL="639720" indent="-272880">
              <a:lnSpc>
                <a:spcPct val="8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extremely vulnerable on the surface and too small to carry survivors, U-boats could not play by the old rules of war</a:t>
            </a:r>
            <a:endParaRPr b="0" lang="en-US" sz="2100" spc="-1" strike="noStrike">
              <a:solidFill>
                <a:srgbClr val="000000"/>
              </a:solidFill>
              <a:latin typeface="Century School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
          <p:cNvSpPr txBox="1"/>
          <p:nvPr/>
        </p:nvSpPr>
        <p:spPr>
          <a:xfrm>
            <a:off x="685800" y="609480"/>
            <a:ext cx="7772400" cy="5486400"/>
          </a:xfrm>
          <a:prstGeom prst="rect">
            <a:avLst/>
          </a:prstGeom>
          <a:noFill/>
          <a:ln w="0">
            <a:noFill/>
          </a:ln>
        </p:spPr>
        <p:txBody>
          <a:bodyPr lIns="90360" rIns="90360" tIns="44280" bIns="44280" anchor="t">
            <a:normAutofit/>
          </a:bodyPr>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result was often a heavy loss of life</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sinking of the </a:t>
            </a:r>
            <a:r>
              <a:rPr b="0" i="1" lang="en-US" sz="2100" spc="-1" strike="noStrike">
                <a:solidFill>
                  <a:srgbClr val="000000"/>
                </a:solidFill>
                <a:latin typeface="Century Schoolbook"/>
              </a:rPr>
              <a:t>Lusitania</a:t>
            </a:r>
            <a:r>
              <a:rPr b="0" lang="en-US" sz="2100" spc="-1" strike="noStrike">
                <a:solidFill>
                  <a:srgbClr val="000000"/>
                </a:solidFill>
                <a:latin typeface="Century Schoolbook"/>
              </a:rPr>
              <a:t> (May 1915), with the loss of 128 American lives, brought an outcry from the American public</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fter dragging out the controversy for nearly a year, Germany apologized and agreed to pay an indemnit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sinking of the </a:t>
            </a:r>
            <a:r>
              <a:rPr b="0" i="1" lang="en-US" sz="2100" spc="-1" strike="noStrike">
                <a:solidFill>
                  <a:srgbClr val="000000"/>
                </a:solidFill>
                <a:latin typeface="Century Schoolbook"/>
              </a:rPr>
              <a:t>Sussex</a:t>
            </a:r>
            <a:r>
              <a:rPr b="0" lang="en-US" sz="2100" spc="-1" strike="noStrike">
                <a:solidFill>
                  <a:srgbClr val="000000"/>
                </a:solidFill>
                <a:latin typeface="Century Schoolbook"/>
              </a:rPr>
              <a:t> in 1916 produced another strong American protest, which led the Germans to promise, in the </a:t>
            </a:r>
            <a:r>
              <a:rPr b="0" i="1" lang="en-US" sz="2100" spc="-1" strike="noStrike">
                <a:solidFill>
                  <a:srgbClr val="000000"/>
                </a:solidFill>
                <a:latin typeface="Century Schoolbook"/>
              </a:rPr>
              <a:t>Sussex</a:t>
            </a:r>
            <a:r>
              <a:rPr b="0" lang="en-US" sz="2100" spc="-1" strike="noStrike">
                <a:solidFill>
                  <a:srgbClr val="000000"/>
                </a:solidFill>
                <a:latin typeface="Century Schoolbook"/>
              </a:rPr>
              <a:t> pledge, to stop sinking merchant ships without warning</a:t>
            </a:r>
            <a:endParaRPr b="0" lang="en-US" sz="21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3" name=""/>
          <p:cNvSpPr txBox="1"/>
          <p:nvPr/>
        </p:nvSpPr>
        <p:spPr>
          <a:xfrm>
            <a:off x="685800" y="609480"/>
            <a:ext cx="7772400" cy="5486400"/>
          </a:xfrm>
          <a:prstGeom prst="rect">
            <a:avLst/>
          </a:prstGeom>
          <a:noFill/>
          <a:ln w="0">
            <a:noFill/>
          </a:ln>
        </p:spPr>
        <p:txBody>
          <a:bodyPr lIns="90360" rIns="90360" tIns="44280" bIns="4428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Election of 1916</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acing a unified Republican party in 1916, Wilson sought the support of progressive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he nominated Lewis D. Brandeis to Supreme Court, signed the Farm Loan Act, approved the Keating-Owens Child Labor Act and a workmen’s compensation package for federal employees, and modified his stance on the tariff</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Wilson’s maintenance of American neutrality and his progressive domestic policies won for him a narrow victory over Republican challenger Charles Evans Hughes</a:t>
            </a:r>
            <a:endParaRPr b="0" lang="en-US" sz="2100" spc="-1" strike="noStrike">
              <a:solidFill>
                <a:srgbClr val="000000"/>
              </a:solidFill>
              <a:latin typeface="Century Schoolboo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1T20:26:26Z</dcterms:created>
  <dc:creator>D95GRAD</dc:creator>
  <dc:description/>
  <dc:language>en-US</dc:language>
  <cp:lastModifiedBy>Ameena</cp:lastModifiedBy>
  <dcterms:modified xsi:type="dcterms:W3CDTF">2008-04-23T20:06:43Z</dcterms:modified>
  <cp:revision>3</cp:revision>
  <dc:subject/>
  <dc:title>WOODROW WILSON AND THE GREAT WAR</dc:title>
</cp:coreProperties>
</file>